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media/image5.wmf" ContentType="image/x-wmf"/>
  <Override PartName="/ppt/media/image10.wmf" ContentType="image/x-wmf"/>
  <Override PartName="/ppt/media/image6.jpeg" ContentType="image/jpeg"/>
  <Override PartName="/ppt/media/image7.wmf" ContentType="image/x-wmf"/>
  <Override PartName="/ppt/media/image8.wmf" ContentType="image/x-wmf"/>
  <Override PartName="/ppt/media/image9.jpeg" ContentType="image/jpeg"/>
  <Override PartName="/ppt/media/image1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2057040" y="419040"/>
            <a:ext cx="2590920" cy="19432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2552760"/>
            <a:ext cx="5486400" cy="5835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119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119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B4BCD-8073-43E4-BF4E-FD920AB85A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body"/>
          </p:nvPr>
        </p:nvSpPr>
        <p:spPr>
          <a:xfrm>
            <a:off x="228600" y="190080"/>
            <a:ext cx="6324480" cy="8458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 A new family moves into the neighbourhood. The father has a job which creates a need to move often. This is the fifth move in the last seven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 A husband and wife have moved to a new city. They are living in a new mobile home park nearby. They have left their home of 30 years as well as their family and frien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 A young couple, married after high school, has two children. The young man recently lost his job and they are completely broke. The couple's parents are unable to provide any assistance. The children have no new clothes or toys. The landlord is threatening evi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5. A couple in their early 50s has sent their last child off to college. The husband's business has been a success and he spends very little time in the day-to-day operation of his business. His wife now faces a daily routine without childr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6. Your friend's father has just come to live in a retirement home near you. She has asked you to visit him whenever you can. The man is a widower, has the beginnings of Alzheimer’s and is very lon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deas from Mary Lou Davies, Seminar Director, My Role as a Support Person in my Church, EAD, 198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BIBLE AND ELLEN WHITE ON VISI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t>
            </a:r>
            <a:r>
              <a:rPr b="0" lang="en-AU" sz="1200" spc="-1" strike="noStrike">
                <a:solidFill>
                  <a:srgbClr val="000000"/>
                </a:solidFill>
                <a:latin typeface="Arial"/>
              </a:rPr>
              <a:t>Then the King will say to those on his right, “come, you who are blessed by my Father; take your inheritance, the kingdom prepared for you since the creation of the world. For ... I was in prison and you came to visit me” (Matt. 25:3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t>
            </a:r>
            <a:r>
              <a:rPr b="0" lang="en-AU" sz="1200" spc="-1" strike="noStrike">
                <a:solidFill>
                  <a:srgbClr val="000000"/>
                </a:solidFill>
                <a:latin typeface="Arial"/>
              </a:rPr>
              <a:t>Religion that God our Father accepts as pure and faultless is this: to look after orphans and widows in their distress and to keep oneself from being polluted by the world” (James 1:2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Jesus was our greatest example of a true visitor. His style is still perfectly suitable for us to follow. </a:t>
            </a:r>
            <a:r>
              <a:rPr b="0" i="1" lang="en-AU" sz="1200" spc="-1" strike="noStrike">
                <a:solidFill>
                  <a:srgbClr val="000000"/>
                </a:solidFill>
                <a:latin typeface="Arial"/>
              </a:rPr>
              <a:t>The Ministry of Healing</a:t>
            </a:r>
            <a:r>
              <a:rPr b="0" lang="en-AU" sz="1200" spc="-1" strike="noStrike">
                <a:solidFill>
                  <a:srgbClr val="000000"/>
                </a:solidFill>
                <a:latin typeface="Arial"/>
              </a:rPr>
              <a:t>, p. 143 says, </a:t>
            </a:r>
            <a:r>
              <a:rPr b="0" i="1" lang="en-AU" sz="1200" spc="-1" strike="noStrike">
                <a:solidFill>
                  <a:srgbClr val="000000"/>
                </a:solidFill>
                <a:latin typeface="Arial"/>
              </a:rPr>
              <a:t>"</a:t>
            </a:r>
            <a:r>
              <a:rPr b="0" lang="en-AU" sz="1200" spc="-1" strike="noStrike">
                <a:solidFill>
                  <a:srgbClr val="000000"/>
                </a:solidFill>
                <a:latin typeface="Arial"/>
              </a:rPr>
              <a:t>The Saviour mingled with people as one who desired their good. He showed His sympathy for them, ministered to their needs, and won their confidence. Then He bade them, ‘Follow 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Arial"/>
              </a:rPr>
              <a:t>The Ministry of Healing</a:t>
            </a:r>
            <a:r>
              <a:rPr b="0" lang="en-AU" sz="1200" spc="-1" strike="noStrike">
                <a:solidFill>
                  <a:srgbClr val="000000"/>
                </a:solidFill>
                <a:latin typeface="Arial"/>
              </a:rPr>
              <a:t> p. 143, 144 says, “There is need of coming close to the people by personal effort. If less time were given to sermonizing, and more time were spent in personal ministry, greater results would be seen. The poor are to be relieved, the sick cared for, the sorrowing and the bereaved comforted, the ignorant instructed, the inexperienced counselled. We are to weep with those that weep, and rejoice with those that rejoice. Accompanied by the power of persuasion, the power of prayer, the power of the love of God, this work will not, cannot, be without fr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Review and Herald, July 12, 1906 says, “We greatly need consecrated women who, as messengers of mercy, shall visit the mothers and the children in their homes, and help them in the every-day household duties, if need be, before beginning to talk to them regarding the truth for this time. You will find that by this method you will have souls as the result of your ministr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2895480" y="419040"/>
            <a:ext cx="2590920" cy="1943280"/>
          </a:xfrm>
          <a:prstGeom prst="rect">
            <a:avLst/>
          </a:prstGeom>
          <a:ln w="0">
            <a:noFill/>
          </a:ln>
        </p:spPr>
      </p:sp>
      <p:sp>
        <p:nvSpPr>
          <p:cNvPr id="107" name="PlaceHolder 2"/>
          <p:cNvSpPr>
            <a:spLocks noGrp="1"/>
          </p:cNvSpPr>
          <p:nvPr>
            <p:ph type="body"/>
          </p:nvPr>
        </p:nvSpPr>
        <p:spPr>
          <a:xfrm>
            <a:off x="456840" y="2247480"/>
            <a:ext cx="5791320" cy="632484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HOME VISITATION (OH-8)</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f you are a deaconess, elder, or any other position of care giving in your church, you will find yourself at some time visiting in the home. It could be a person just home from the hospital, a shut-in, or any other situation. This section will concentrate on the “how to” of visiting in the home.</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a:t>
            </a:r>
            <a:r>
              <a:rPr b="0" lang="en-AU" sz="1200" spc="-1" strike="noStrike">
                <a:solidFill>
                  <a:srgbClr val="000000"/>
                </a:solidFill>
                <a:latin typeface="Arial"/>
              </a:rPr>
              <a:t>	</a:t>
            </a:r>
            <a:r>
              <a:rPr b="1" lang="en-AU" sz="1200" spc="-1" strike="noStrike">
                <a:solidFill>
                  <a:srgbClr val="000000"/>
                </a:solidFill>
                <a:latin typeface="Arial"/>
              </a:rPr>
              <a:t>The Entrance</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The visitor should be sure that he/she comes with God’s presence into the home. Unless the situation calls for one to be grave and serious, the visitor should enter the home with a happy spirit. After an initial exchange of greetings in which the visitor tries to evaluate the situation, an attempt should be made to make sure the person in the home is relaxed. An honest compliment will do well (such as, “I like your beautiful azaleas”) but this small talk should not extend beyond a few minutes.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a:t>
            </a:r>
            <a:r>
              <a:rPr b="0" lang="en-AU" sz="1200" spc="-1" strike="noStrike">
                <a:solidFill>
                  <a:srgbClr val="000000"/>
                </a:solidFill>
                <a:latin typeface="Arial"/>
              </a:rPr>
              <a:t>	</a:t>
            </a:r>
            <a:r>
              <a:rPr b="1" lang="en-AU" sz="1200" spc="-1" strike="noStrike">
                <a:solidFill>
                  <a:srgbClr val="000000"/>
                </a:solidFill>
                <a:latin typeface="Arial"/>
              </a:rPr>
              <a:t>Sitting Down</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This may sound a little strange, but knowledge in this area may save a lot of embarrassment. Do not sit down until invited to do so. Many visits have been spoiled by a visitor thoughtlessly sitting down in the host’s chair or in a chair with a cracked leg so that either it gave way immediately, or the householder’s mind was so preoccupied with whether or not it would that nothing was gained by the visit.</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a:t>
            </a:r>
            <a:r>
              <a:rPr b="0" lang="en-AU" sz="1200" spc="-1" strike="noStrike">
                <a:solidFill>
                  <a:srgbClr val="000000"/>
                </a:solidFill>
                <a:latin typeface="Arial"/>
              </a:rPr>
              <a:t>	</a:t>
            </a:r>
            <a:r>
              <a:rPr b="1" lang="en-AU" sz="1200" spc="-1" strike="noStrike">
                <a:solidFill>
                  <a:srgbClr val="000000"/>
                </a:solidFill>
                <a:latin typeface="Arial"/>
              </a:rPr>
              <a:t>The Discussion</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The visitor who best exemplifies the Lord will learn how to deal with each individual. One wise commentator said that the purpose of a pastoral care visit should really be two-fold:</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a:t>
            </a:r>
            <a:r>
              <a:rPr b="0" lang="en-AU" sz="1200" spc="-1" strike="noStrike">
                <a:solidFill>
                  <a:srgbClr val="000000"/>
                </a:solidFill>
                <a:latin typeface="Arial"/>
              </a:rPr>
              <a:t>	</a:t>
            </a:r>
            <a:r>
              <a:rPr b="0" lang="en-AU" sz="1200" spc="-1" strike="noStrike">
                <a:solidFill>
                  <a:srgbClr val="000000"/>
                </a:solidFill>
                <a:latin typeface="Arial"/>
              </a:rPr>
              <a:t>Uncover any special needs that ought to be met by the visitor.</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i)   Show God’s loving concern for His sheep by coming and offering any immediate assistance that might be required.</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a:t>
            </a:r>
            <a:r>
              <a:rPr b="0" lang="en-AU" sz="1200" spc="-1" strike="noStrike">
                <a:solidFill>
                  <a:srgbClr val="000000"/>
                </a:solidFill>
                <a:latin typeface="Arial"/>
              </a:rPr>
              <a:t>	</a:t>
            </a:r>
            <a:r>
              <a:rPr b="1" lang="en-AU" sz="1200" spc="-1" strike="noStrike">
                <a:solidFill>
                  <a:srgbClr val="000000"/>
                </a:solidFill>
                <a:latin typeface="Arial"/>
              </a:rPr>
              <a:t>Length of Call</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Many visits are too long. For the average visit, a visitor might plan to spend 20 minutes to one hour, depending on the situation and how much the householders want to talk. Generally, one hour of discussion is about all that can be pursued fruitfully. If there are special problems, it will be necessary to plan to visit again. Usually the home visit can be closed by saying, “Before I say goodbye, let me read a portion of the Scriptures and pray with you.”</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body"/>
          </p:nvPr>
        </p:nvSpPr>
        <p:spPr>
          <a:xfrm>
            <a:off x="380520" y="266400"/>
            <a:ext cx="6248520" cy="8381880"/>
          </a:xfrm>
          <a:prstGeom prst="rect">
            <a:avLst/>
          </a:prstGeom>
          <a:noFill/>
          <a:ln w="0">
            <a:noFill/>
          </a:ln>
        </p:spPr>
        <p:txBody>
          <a:bodyPr lIns="90000" rIns="90000" tIns="46800" bIns="46800" anchor="t">
            <a:noAutofit/>
          </a:bodyPr>
          <a:p>
            <a:pPr lvl="1" marL="114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5.  Visiting the Shut-In</a:t>
            </a:r>
            <a:endParaRPr b="0" lang="en-US" sz="1200" spc="-1" strike="noStrike">
              <a:solidFill>
                <a:srgbClr val="000000"/>
              </a:solidFill>
              <a:latin typeface="Arial"/>
            </a:endParaRPr>
          </a:p>
          <a:p>
            <a:pPr lvl="2"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Undergird the shut-in with prayer.</a:t>
            </a:r>
            <a:endParaRPr b="0" lang="en-US" sz="1200" spc="-1" strike="noStrike">
              <a:solidFill>
                <a:srgbClr val="000000"/>
              </a:solidFill>
              <a:latin typeface="Arial"/>
            </a:endParaRPr>
          </a:p>
          <a:p>
            <a:pPr lvl="2"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Visit shut-ins systematically and encourage others to do so.</a:t>
            </a:r>
            <a:endParaRPr b="0" lang="en-US" sz="1200" spc="-1" strike="noStrike">
              <a:solidFill>
                <a:srgbClr val="000000"/>
              </a:solidFill>
              <a:latin typeface="Arial"/>
            </a:endParaRPr>
          </a:p>
          <a:p>
            <a:pPr lvl="2"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Make a telephone call ahead of time to find out if the time is convenient to visit.</a:t>
            </a:r>
            <a:endParaRPr b="0" lang="en-US" sz="1200" spc="-1" strike="noStrike">
              <a:solidFill>
                <a:srgbClr val="000000"/>
              </a:solidFill>
              <a:latin typeface="Arial"/>
            </a:endParaRPr>
          </a:p>
          <a:p>
            <a:pPr lvl="2"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ssure the shut-in of your prayerful concern and of God’s sustaining love.</a:t>
            </a:r>
            <a:endParaRPr b="0" lang="en-US" sz="1200" spc="-1" strike="noStrike">
              <a:solidFill>
                <a:srgbClr val="000000"/>
              </a:solidFill>
              <a:latin typeface="Arial"/>
            </a:endParaRPr>
          </a:p>
          <a:p>
            <a:pPr lvl="2"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o not let the shut-in feel guilty because he/she is no longer an active church member.</a:t>
            </a:r>
            <a:endParaRPr b="0" lang="en-US" sz="1200" spc="-1" strike="noStrike">
              <a:solidFill>
                <a:srgbClr val="000000"/>
              </a:solidFill>
              <a:latin typeface="Arial"/>
            </a:endParaRPr>
          </a:p>
          <a:p>
            <a:pPr lvl="2"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Encourage him/her in a ministry of prayer.</a:t>
            </a:r>
            <a:endParaRPr b="0" lang="en-US" sz="1200" spc="-1" strike="noStrike">
              <a:solidFill>
                <a:srgbClr val="000000"/>
              </a:solidFill>
              <a:latin typeface="Arial"/>
            </a:endParaRPr>
          </a:p>
          <a:p>
            <a:pPr lvl="2"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f the person’s physical ability is limited only temporarily, encourage them with hopeful anticipation of being included in plans for the future.</a:t>
            </a:r>
            <a:endParaRPr b="0" lang="en-US" sz="1200" spc="-1" strike="noStrike">
              <a:solidFill>
                <a:srgbClr val="000000"/>
              </a:solidFill>
              <a:latin typeface="Arial"/>
            </a:endParaRPr>
          </a:p>
          <a:p>
            <a:pPr lvl="2"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shut-in may desire prayer, even over the phone.</a:t>
            </a:r>
            <a:endParaRPr b="0" lang="en-US" sz="1200" spc="-1" strike="noStrike">
              <a:solidFill>
                <a:srgbClr val="000000"/>
              </a:solidFill>
              <a:latin typeface="Arial"/>
            </a:endParaRPr>
          </a:p>
          <a:p>
            <a:pPr lvl="2"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Keep the shut-in up-to-date with church news.</a:t>
            </a:r>
            <a:endParaRPr b="0" lang="en-US" sz="1200" spc="-1" strike="noStrike">
              <a:solidFill>
                <a:srgbClr val="000000"/>
              </a:solidFill>
              <a:latin typeface="Arial"/>
            </a:endParaRPr>
          </a:p>
          <a:p>
            <a:pPr lvl="2"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Give copies of church bulletins and other materials.</a:t>
            </a:r>
            <a:endParaRPr b="0" lang="en-US" sz="1200" spc="-1" strike="noStrike">
              <a:solidFill>
                <a:srgbClr val="000000"/>
              </a:solidFill>
              <a:latin typeface="Arial"/>
            </a:endParaRPr>
          </a:p>
          <a:p>
            <a:pPr lvl="2"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llow up personal visits with telephone calls. A five-minute call may brighten up their day.</a:t>
            </a:r>
            <a:endParaRPr b="0" lang="en-US" sz="1200" spc="-1" strike="noStrike">
              <a:solidFill>
                <a:srgbClr val="000000"/>
              </a:solidFill>
              <a:latin typeface="Arial"/>
            </a:endParaRPr>
          </a:p>
          <a:p>
            <a:pPr lvl="1" marL="114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6.  Guidelines for Making Initial Visit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following guidelines were prepared by Bill Trimyer, Director of Pastoral Care, Brunham Hospital, Champaign, Illinois, USA.</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  Go with a positive attitude about yourself and your church.</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B.   Use a non-threatening approach. Be sure to state the reason for your visi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  Give direction and intentionality to your visitation efforts. Decide ahead of time what you want to accomplish in your visi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  Relate to where the person is in lif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E.   Be complimentary and affirming when appropriat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   Take the lead in conversation. Remember, you are the one who came calling.</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G.  Ask questions, but don’t pry.</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   Present yourself. It is not necessary to make a sales pitch for your church.</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    Share what it means for you to be a member of your church.</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J.   Ask if there are any ways you might be helpful, particularly if the people you are visiting are new to the area.</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K.   Be sure to invite them to any social event scheduled at the church. Offer to pick them up if they need transportatio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   Respect people’s space and time. People are not often eager to have uninvited guest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M.  Entering a person’s home is a privilege and not a right. Design your visit to be brief. Ask for 10-15 minutes of their time and abide by it unless encouraged to stay.</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  Be yourself.</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  Leave some information with the people you visit. Don’t bore them with information they can read for themselv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  Let them know your availability. You may choose to leave your name and numbe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Q.  Carefully time your visit. Avoid visiting at meal times or too early in the morning.</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R.   Make mental note of the “emotional atmosphere” in the hom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   Listen for primary concerns, family problems, loneliness, grief and bereavement, and spiritual concern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  Where necessary, make referrals to the pastor if you sense that a follow-up visit would be helpful.</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2138400" y="419040"/>
            <a:ext cx="2428920" cy="1820880"/>
          </a:xfrm>
          <a:prstGeom prst="rect">
            <a:avLst/>
          </a:prstGeom>
          <a:ln w="0">
            <a:noFill/>
          </a:ln>
        </p:spPr>
      </p:sp>
      <p:sp>
        <p:nvSpPr>
          <p:cNvPr id="110" name="PlaceHolder 2"/>
          <p:cNvSpPr>
            <a:spLocks noGrp="1"/>
          </p:cNvSpPr>
          <p:nvPr>
            <p:ph type="body"/>
          </p:nvPr>
        </p:nvSpPr>
        <p:spPr>
          <a:xfrm>
            <a:off x="456840" y="2324160"/>
            <a:ext cx="5791320" cy="59436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YPES OF VISITATION: (OH-9)</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1. Visiting a Church Membe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hurch surveys carried out in Australia and USA overwhelmingly portray a need for visitation of members whose lives might be in turmoil or trouble. We need to care for each other and notice the subtle call for help.</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1994 a survey of former members of the Seventh-day Adventist Church was conducted in Australia. This was to discover reasons for the high levels of apostasies. In 1993, the apostasy rate in Australia and New Zealand was 68.4%. For every three persons being baptized, approximately two were leaving.</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rty-five percent of the respondents had five or more close church friends while they were in the church.  Forty-five percent had two to four such friends. One in ten had only one or no such friend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ne of the main reasons for leaving was stated like this "I was not treated as a person." The teaching of the church is that members of the Body of Christ are part of a community which is marked by Christian love and fellowship. This infers certain types of relationships. Discordant relationships between the former member and other members of the church led to dysfunctional situations. This was reflected many times in the comments made by respondent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survey also indicated that in less than one-third of cases, a pastor visited during their membership. In approximately another third of cases, there was a church member visit or a phone call or note from the pastor or church member. And in more than one-third of cases, no contact was made with the one who was later disfellowshipped or lef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lwyn Salom says: "These things speak for themselves. How many of those in the process of exiting the church could have been recovered by a combined ministry of pastor and members initiated as soon as the situation was detected?"  He also says "Churches need to have an on-going visitation ministry (both by pastor and lay visitors) to detect problems and minister to them.”</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ow much better it would be to have regular visitations before problems become evident.  It could help prevent problems as well as apostasi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2. Cancer Patient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a huge area for discussion but we will only touch upon the subject. There are many support services available to lend support and guidance.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omen, when they initially find out they have cancer, are usually shocked, bewildered, fearful, despairing, frightened, or disappointed. There are a huge range of emotions that might be portraye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body"/>
          </p:nvPr>
        </p:nvSpPr>
        <p:spPr>
          <a:xfrm>
            <a:off x="533160" y="596880"/>
            <a:ext cx="5715000" cy="77472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patient and the family are facing upheaval. Both are facing losses, both may need to make significant changes in their living patterns and they all need support to help them deal with each other and with themselves. This is where the experts can help—ministers, chaplains, counsellors, and others trained to care for such trauma.</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But, as Christian women we can be there to offer assistance or a listening ear. Do not be afraid to look a cancer patient in the eye when you talk to her (or him) and talk about the cancer if that is what the person wants to do. On the other hand, be aware that during a prolonged experience with cancer the person may become tired of telling the story all over again when someone asks, "How are you?"</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en the patient is home and treatment for cancer is going on, practical assistance might be needed. A short home visit with a plate of food may be what is most needed. Flowers or a small useful item are appreciated. Someone to peel the potatoes or iron for half an hour may be most helpful.</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o often, it is the "being with" rather than the "doing for" which is missed when wanting to help a sick person or one with cancer.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3. Maternity/New Babi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Visitation to a new mother can be a beautiful experience for both parties—the mother and the visitor – if  done sensitively. If you have been assigned as a visitor to maternity patients there are a few pointers to remembe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 New mothers are usually baby centered at this time. All the talk must revolve around the baby if the visitor is to be heard.</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 Try to recall your own experience as a new mother and at each subsequent birth. Did you feel like having visitors and what did you want to happen or talk abou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 Some mothers will be very tired and sore and will want few visitors or only short visits. Others might be lonely and away from family and friends and will need suppor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ew mothers often express a desire to "do it right." It is a profound and significant responsibility to visit a new mother to say, "Welcome into God's family." These exact words may not be appropriate to use, but your visit can say it. It is nearly always appropriate to say, “God bless you and your new baby.” Fathers especially respond to these words.   A small gift and card is always accepted readily.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Unless the mother makes it obvious that she wants to talk to you for longer, make the visit short and sweet. If you come from a church which has a playgroup and Sabbath School to which the mother could bring her baby, tell her so without being pushy. Even better would be to have a small brochure showing what is available in your area—playgroups, Sabbath Schools, and church school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4. Sick Babies and Childre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lthough this is an area for the professionals to be involved with, you may be asked or required to visit parents who have experienced these difficulties. A sick baby can be devastating, especially to a first-time mother. Many mothers will be in deep distress at this turn of events. They had expected a healthy baby and this is a completely unplanned event. They will spend lots of time in the special care nursery watching, sitting, and holding the baby’s foot or hand through the hospital bars of the crib. The nurses care for the baby well in every physical way, but it could be that the mother needs spiritual suppor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body"/>
          </p:nvPr>
        </p:nvSpPr>
        <p:spPr>
          <a:xfrm>
            <a:off x="456840" y="343080"/>
            <a:ext cx="6172200" cy="853416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e should remember how Jesus cared for, blessed, and healed the little children. Do not discuss medical matters with the mother. This is inappropriate and should be left to the medical staff. Be ready to offer spiritual support. You will receive strong vibes of acceptance if the mother wishes you to pray and it is then that you would offer to do so.</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en visiting children in the hospital it is usually the parent who benefits most from your visit. Parents are usually very worried when their child ends up in the hospital. A small children’s book or teen magazine is always appropriate to give the child. If a parent is alone and worried, it could be an opportune time to sit with the parent and offer support. Or you could encourage the parent to take a walk outside or get a meal while you wait by the bedsid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s in all encounters with the sick, be sensitive about praying. Remember—you can always pray silently. During the conversation with the parent, you will get to know whether or not the person might want you to pray. Be observant, listen, and try to understand. Be empathetic.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5. Still Births, Miscarriage, and Neonatal Death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much more common than generally expected. One in 115 babies in our society will be stillborn or die soon after birth.</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MISCARRIAGE is loss of a child less than 20 weeks after conceptio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TILLBIRTH is loss after 20 week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EONATAL DEATH is a death occurring during the first 28 days after birth.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Usually a chaplain and/or social worker will have seen the mother or parents when this occurred, in the hospital. If you are a relative or close friend you will want to make contact with the grieving parents. It would be helpful if there was follow up when the young mother returns home. This is where you can help. There are a few things to consider in this scenario.</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Every grieving person is different and will not mourn their loss in the same manner. Some will be silent, others will have tears. At another stage, there will be denial. If the parents have no religious affiliation and you are asked to visit you will probably find that the young parents will recall their connections with the church at this time. They might look hopefully to you as representing the church or God and expect something.</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Remember, this has been a very disappointing experience. Most parents have thought of their child growing and developing perfectly and had plans for his or her life. All hopes are now dashed and it is unbelievable that this has happened. They didn't expect their child to die before them. It is a hard experienc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ere are a few quotes from mothers whose babies have died. They help us to understand.</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Babies don't die—old people di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obody seemed to understand how I felt about losing my baby. I had nobody to share my experience with."</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Breast milk, blood, tears—it was as though my whole body was weeping."</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My mother told me his death was for the best. How did she know what was bes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 learned how very precious, tenuous, and miraculous life is. This was her legacy to m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My arms are so empty and my breasts so full."</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en one approaches a young parent whose baby has died, it can be quite unnerving at first. Go quietly and gently and sit and listen to the story if it is offered. Your tears, added to the mother’s, can be a very enriching experience. This touches the most significant and deepest emotional experiences of life and death. God can feel very close. We just need to reach out—He is there to be with us and to reveal Himself when He is invited. He understands—He gave His very own so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body"/>
          </p:nvPr>
        </p:nvSpPr>
        <p:spPr>
          <a:xfrm>
            <a:off x="685800" y="571320"/>
            <a:ext cx="5486400" cy="781668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Encourage the mother and/or father and family to proceed slowly and gently with this phase of their lives. Choose your words wisely and with divine guidance. Better to say nothing and hug the parents and maybe say, “God be with you,” than to say the wrong words and alienate each othe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en one has lost a loved one in death we hate to hear the words, "It will get better—you'll get over it." Or, "You can have another baby soon."  Those words make us angry and disturbed. We don't believe it. Be with the patient in his/her distress and offer the comfort of God and of friendship. The patient might be appreciative of some words of Scripture which you have found helpful in your own experience—read them after being given permission to do so.</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6. The Dying Patient – Making Visiting Easie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Visiting a dying patient can be extremely tiring and depressing. You may have a dying relative or friend. There are many people who will die lonely and this is where a sensitive Christian can serve. We can bring warmth, comfort and companionship to such peopl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 When a person is ill at home, call ahead to check on the condition of the patient and the most suitable time to visi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 Check to see if the patient or the caregiver might need something you could bring.</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 Remember the patient might be depressed or confused. Your visit and understanding could bring stability and continuity to the person if you are familiar and loved.</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 Be aware of time. Prolonged visits will defeat the purpos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5. Focus totally on the patient and give him/her your undivided attention. Non verbal communication can sometimes be as helpful as talking. Read a short scripture or other reading.  Be sensitiv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6. Other than flowers, other small gifts could be appropriate such as: soap, body lotion, cassettes (favourite music, poetry, and Bible readings), soft sweater or bed jacket, colorful blanket, notebook, photographs, teabags, magazine, or a basket assortment of small wrapped gift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7. Watch your tone of voice. Don't shout. Speak clearly and don't discuss the patient with others in the room. Go outside if that is necessary.</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8. If a person appears unconscious, speak their name and say who you are and why you have come. Be sensitive. Share yourself the best way you know. You could read a text and say a short prayer. Such a person will often respond with a low moa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ome pointers for conversation with a dying perso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Remember the good times and reminisce if appropriat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on't be afraid to discuss death—let the patient express deep feeling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et him/her cry and share their feelings. This is natural at some stages of the death proces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Be a sympathetic ear and let the patient talk.</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Reassure—let it be known that all past grievances are forgiven and forgotte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ouch—hold the hand, kiss the brow, or hug. This is more important than any medicine now.</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body"/>
          </p:nvPr>
        </p:nvSpPr>
        <p:spPr>
          <a:xfrm>
            <a:off x="685800" y="876240"/>
            <a:ext cx="5486400" cy="58356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ind out if the patient wants to talk about his/her condition by asking, “Do you want to talk about i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on't lecture or preach—support, sympathize, and lov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ffer to shop, do errands, write, or cal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iscuss news that is important—don't prattl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ome common conversation openers such as, “How are you?” are irritants to dying people. Most patients respond to “Hello” or “I'm glad to see you” and that is sufficie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ne final word: Hope. Miracles do happen. Don't clam up when the future is mentioned. When a person is facing the unknown, do not deny hope. Share it, give it, and trust in i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et the person know how grateful you have been to share some of life with them. Don't let the sadness and discomfort at intimacy rob you of the obligation and pleasure of saying, “Thank you.”</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f you have not done it often enough or before, and if appropriate, don't be afraid to say, “I love you.”</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f your visit can make the dying person a little more comfortable and a little happier or if it can give him/her hope it has been a truly successful visi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CONCLUS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Visitation is about benefiting the person visited. The visitor is there to listen, empathize, and demonstrate that they value the person as a friend, community member, and child of God.  Whether caused by a particular event or simply a desire to reach out to someone, visitation is an important task for the Body of Chris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2057400" y="419040"/>
            <a:ext cx="2590920" cy="1943280"/>
          </a:xfrm>
          <a:prstGeom prst="rect">
            <a:avLst/>
          </a:prstGeom>
          <a:ln w="0">
            <a:noFill/>
          </a:ln>
        </p:spPr>
      </p:sp>
      <p:sp>
        <p:nvSpPr>
          <p:cNvPr id="91" name="PlaceHolder 2"/>
          <p:cNvSpPr>
            <a:spLocks noGrp="1"/>
          </p:cNvSpPr>
          <p:nvPr>
            <p:ph type="body"/>
          </p:nvPr>
        </p:nvSpPr>
        <p:spPr>
          <a:xfrm>
            <a:off x="685800" y="2552760"/>
            <a:ext cx="5486400" cy="5835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KNOW YOUR PLACE IN THE BODY OF CHRIST</a:t>
            </a:r>
            <a:r>
              <a:rPr b="0" lang="en-AU" sz="1200" spc="-1" strike="noStrike">
                <a:solidFill>
                  <a:srgbClr val="000000"/>
                </a:solidFill>
                <a:latin typeface="Arial"/>
              </a:rPr>
              <a:t> </a:t>
            </a:r>
            <a:r>
              <a:rPr b="1" lang="en-AU" sz="1200" spc="-1" strike="noStrike">
                <a:solidFill>
                  <a:srgbClr val="000000"/>
                </a:solidFill>
                <a:latin typeface="Arial"/>
              </a:rPr>
              <a:t>(OH-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Each person is unique. See 1 Corinthians 12:27, 28. The Message version s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Arial"/>
              </a:rPr>
              <a:t>"You are Christ's body—that's who you are. You must never forget this. Only as you accept your part of that body does your ‘part’ mean anything. You're familiar with some of the parts that God has formed in His church, which is His `body': apostles, prophets, teachers, miracle workers, healers, helpers, organizers, and those who pray in tongues. But it's obvious by now, isn't it, that Christ's church is a complete body and not a gigantic, unidimensional p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en we visit someone we become a helper or healer in some way, and contribute to the work of the body of Chris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3124080" y="419040"/>
            <a:ext cx="2590920" cy="1943280"/>
          </a:xfrm>
          <a:prstGeom prst="rect">
            <a:avLst/>
          </a:prstGeom>
          <a:ln w="0">
            <a:noFill/>
          </a:ln>
        </p:spPr>
      </p:sp>
      <p:sp>
        <p:nvSpPr>
          <p:cNvPr id="93" name="PlaceHolder 2"/>
          <p:cNvSpPr>
            <a:spLocks noGrp="1"/>
          </p:cNvSpPr>
          <p:nvPr>
            <p:ph type="body"/>
          </p:nvPr>
        </p:nvSpPr>
        <p:spPr>
          <a:xfrm>
            <a:off x="457200" y="1257120"/>
            <a:ext cx="5943600" cy="7543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Why visit? (OH-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re are people who need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God has asked us to do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Because we love to do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o bear each other's burd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Because there is personal joy and satisfaction in helping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elping others is also good for us. When we do good things we feel good. There is a positive connection between caring for others and immunity to illness. Our personalities interact with theirs and we create something unique. People who care and help receive a special blessing from visiting. They have a stronger bond with God as they identify with the love He has for His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Ministry of Visitation—Responsibility For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ministry of visitation is not the exclusive responsibility of the pastor or a staff member specifically appointed for this purpose. It is a ministry in which all members of the church can participate; in particular, elders, deacons, and those who have a caring ministry within the church. It involves personal visitation to those who are unsaved or not members of our church, families for whom one has a particular responsibility, visiting shut-ins at home, and visiting the sick at home or in the hospital. It is a duty for which a visitor must take time. </a:t>
            </a:r>
            <a:r>
              <a:rPr b="0" i="1" lang="en-AU" sz="1200" spc="-1" strike="noStrike">
                <a:solidFill>
                  <a:srgbClr val="000000"/>
                </a:solidFill>
                <a:latin typeface="Arial"/>
              </a:rPr>
              <a:t>It must never be done </a:t>
            </a:r>
            <a:r>
              <a:rPr b="0" lang="en-AU" sz="1200" spc="-1" strike="noStrike">
                <a:solidFill>
                  <a:srgbClr val="000000"/>
                </a:solidFill>
                <a:latin typeface="Arial"/>
              </a:rPr>
              <a:t>out of a sense of duty. The visitor who is willing to go as a servant is sure to be blessed and will be a blessing to those he/she visits. Visitation should become part of a lifestyle. Occasionally the result of visitation people will be converted and/or join the chu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Before making any visit, the visitor must prepare him/herself emotionally and spiritually. Each visit must be prayerfully considered. The purpose of any visit must be to benefit the person being visited and bring glory to God. Anything less than this is unworthy of the effort. The visitor should postpone the visit if he/she is not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re are two things we should keep in min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e must find a balance. When it starts to become too stressful or inconvenient to visit, it may be a sign that we are stepping over the boundaries. We can become over-involved, particularly if we have a burden for their soul and we put too much intensity into the connection in order to overcome dif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e need to allow people to back off. Jesus always had a loophole for a person to say, “No thank you, not today.” He always gave the person the freedom of choice. When the woman touched his garment, he turned around and asked "Who touched me?" He knew, but He left it up to her to continue. He gave her the time, but she had the agen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2133720" y="419040"/>
            <a:ext cx="2590560" cy="1943280"/>
          </a:xfrm>
          <a:prstGeom prst="rect">
            <a:avLst/>
          </a:prstGeom>
          <a:ln w="0">
            <a:noFill/>
          </a:ln>
        </p:spPr>
      </p:sp>
      <p:sp>
        <p:nvSpPr>
          <p:cNvPr id="95" name="PlaceHolder 2"/>
          <p:cNvSpPr>
            <a:spLocks noGrp="1"/>
          </p:cNvSpPr>
          <p:nvPr>
            <p:ph type="body"/>
          </p:nvPr>
        </p:nvSpPr>
        <p:spPr>
          <a:xfrm>
            <a:off x="685800" y="2552760"/>
            <a:ext cx="5486400" cy="5835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What are the qualities of visitors or helpers? (OH-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 Corinthians 13:5 says "Examine yourselves as to whether you are in the faith" (RAV). Are we fit to be a helper or a visitor? Preparation is needed. We need to know ourselves and what kind of qualities we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 Peter 4:9, 10 says "Be hospitable to one another without grumbling. As each one has received a gift, minister it to one another, as good stewards of the manifold grace of God” (NKJ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ospitality means making sure the people you visit feel at home with you. A person involved in the ministry of visitation needs to be sensitive, warm, and friend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2057400" y="419040"/>
            <a:ext cx="2590920" cy="1943280"/>
          </a:xfrm>
          <a:prstGeom prst="rect">
            <a:avLst/>
          </a:prstGeom>
          <a:ln w="0">
            <a:noFill/>
          </a:ln>
        </p:spPr>
      </p:sp>
      <p:sp>
        <p:nvSpPr>
          <p:cNvPr id="97" name="PlaceHolder 2"/>
          <p:cNvSpPr>
            <a:spLocks noGrp="1"/>
          </p:cNvSpPr>
          <p:nvPr>
            <p:ph type="body"/>
          </p:nvPr>
        </p:nvSpPr>
        <p:spPr>
          <a:xfrm>
            <a:off x="685800" y="2552760"/>
            <a:ext cx="5486400" cy="58356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APPROACH OTHERS IN DISTRESS WITH… (OH-4)</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A. Sensitivity and empathy</a:t>
            </a:r>
            <a:r>
              <a:rPr b="0" lang="en-AU" sz="1200" spc="-1" strike="noStrike">
                <a:solidFill>
                  <a:srgbClr val="000000"/>
                </a:solidFill>
                <a:latin typeface="Arial"/>
              </a:rPr>
              <a:t>—It is essential and powerful. Carl Rogers asks us, "How did it happen that the deeper we go into ourselves as particular and unique, seeking for our own individual identity, the more we find the whole human?" As we share our uniqueness we find a commonality—it connects us to the mind, soul, pain, and joy of another.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Empathy is freeing ourselves to see, understand, and experience life through another's being. In order to do that, We each need to lay aside our views and values in order to enter another's world without prejudic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Remember Jesus with the woman at the well. He met her with kindness and sensitivity. He worried about her—her person, her life, her relationships. He made a connection so that she wanted to stay and listen. He did not worry about her belief system at that point in tim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Empathy is rooted in our own emotional knowledge of loss. If anyone has not experienced loss then their empathy levels are never as deep as those who have been through deep grief or loss and have survived it well.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test of our empathy is the capacity to relate with sensitivity to the sufferer and not the magnitude of their misfortune. Not until we reach the person where they are can we bring them to something positiv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B.</a:t>
            </a:r>
            <a:r>
              <a:rPr b="0" lang="en-AU" sz="1200" spc="-1" strike="noStrike">
                <a:solidFill>
                  <a:srgbClr val="000000"/>
                </a:solidFill>
                <a:latin typeface="Arial"/>
              </a:rPr>
              <a:t>  </a:t>
            </a:r>
            <a:r>
              <a:rPr b="1" lang="en-AU" sz="1200" spc="-1" strike="noStrike">
                <a:solidFill>
                  <a:srgbClr val="000000"/>
                </a:solidFill>
                <a:latin typeface="Arial"/>
              </a:rPr>
              <a:t>Flexibility</a:t>
            </a:r>
            <a:r>
              <a:rPr b="0" lang="en-AU" sz="1200" spc="-1" strike="noStrike">
                <a:solidFill>
                  <a:srgbClr val="000000"/>
                </a:solidFill>
                <a:latin typeface="Arial"/>
              </a:rPr>
              <a:t>—We are not to impose ourselves as an authority on any subject. We need to go with open hands—we need to form a relationship before we can present any of our own belief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C.  Genuineness</a:t>
            </a:r>
            <a:r>
              <a:rPr b="0" lang="en-AU" sz="1200" spc="-1" strike="noStrike">
                <a:solidFill>
                  <a:srgbClr val="000000"/>
                </a:solidFill>
                <a:latin typeface="Arial"/>
              </a:rPr>
              <a:t>—Don't copy anyone else. God made each one of us special—rejoice in it.  Each one of us is worth more than any million-dollar painting. We need to be real, honest, and vulnerable. There are times when it will be appropriate to share some of our own experiences, but do not allow them to get in the way. That will develop trus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D. Acceptance of differences</a:t>
            </a:r>
            <a:r>
              <a:rPr b="0" lang="en-AU" sz="1200" spc="-1" strike="noStrike">
                <a:solidFill>
                  <a:srgbClr val="000000"/>
                </a:solidFill>
                <a:latin typeface="Arial"/>
              </a:rPr>
              <a:t>—We need to accept that people come from different places and situations.  We are looking for connections to encourage them and make it safe for them to reach out for the spiritual answer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Romans 14:1 says "Accept him whose faith is weak, without passing judgement on disputable matters" (NIV). Memorize that. Remember, not everyone will have the faith we hav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Romans 15:7 says "Accept one another, then, just as Christ accepted you in order to bring praise to God" (NIV). He accepts everyone—He wants no one to be lost. We need to go with the same spiri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2209680" y="419040"/>
            <a:ext cx="2235240" cy="1676520"/>
          </a:xfrm>
          <a:prstGeom prst="rect">
            <a:avLst/>
          </a:prstGeom>
          <a:ln w="0">
            <a:noFill/>
          </a:ln>
        </p:spPr>
      </p:sp>
      <p:sp>
        <p:nvSpPr>
          <p:cNvPr id="99" name="PlaceHolder 2"/>
          <p:cNvSpPr>
            <a:spLocks noGrp="1"/>
          </p:cNvSpPr>
          <p:nvPr>
            <p:ph type="body"/>
          </p:nvPr>
        </p:nvSpPr>
        <p:spPr>
          <a:xfrm>
            <a:off x="609120" y="2171880"/>
            <a:ext cx="5791320" cy="6400800"/>
          </a:xfrm>
          <a:prstGeom prst="rect">
            <a:avLst/>
          </a:prstGeom>
          <a:noFill/>
          <a:ln w="0">
            <a:noFill/>
          </a:ln>
        </p:spPr>
        <p:txBody>
          <a:bodyPr lIns="90000" rIns="90000" tIns="46800" bIns="46800"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DEVELOP GOOD COMMUNICATION SKILLS (OH-5)</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 Listening focuses on what the person is saying. Listen very carefully to what words are being used. Listen for feelings behind the words. We need to listen to the experience of the other person, then reflect it back to them. We need to get the person to talk to us. The way to do this is by asking How, When, Where, or What? Never ask Why. Use open ended questions such a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ell me about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m wondering how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m wondering when...</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m wondering where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wasn't clear to me what you meant when you said…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m confused. On one hand you seem to be saying … but then you told m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lways be careful and gentle when talking to people in distress. Be sensitive when a person says “No.” He or she doesn't want to talk just then.</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B. Reflect the feelings. Say to yourself, “How does that make him/her feel? Make tentative statements to help clarify the conversation and keep it going:</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You seem to be feeling...</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 get a sense of ... when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 can see that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m hearing you say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m picking up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 gather that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on't confuse listening and giving advice. It may be appropriate to give information about where to get financial help, information about wills, exercise, diet programs, or other factual information, but not advice.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 Listen for themes in the conversation. It will help in understanding the context and content of the situation. It is called a frame of reference. We might hear words lik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othing is going to work out., Life is the pits., I'm the kind of person who can't say no., I don't understand., God doesn't hear., I shouldn't be feeling., I shouldn't be thinking., I'm not coping., I don't like to bother peopl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will be a message about goals, disappointments, emotions, personal concerns, God and their belief system, or their fear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body"/>
          </p:nvPr>
        </p:nvSpPr>
        <p:spPr>
          <a:xfrm>
            <a:off x="685800" y="952200"/>
            <a:ext cx="5486400" cy="7435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 Avoid noxious words. These are words that give wrong messages but are usually said with a good motive. Motive is not good enough. We need to know the effect they will have on someone. We are not hearing a person when we say things lik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Be brav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on't doubt Go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rayer is the answ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on't cry—you'll make yourself wors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y're better off now.</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Just keep bus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ave a positive attitud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Remember Elijah—he was the top evangelist and was in a mess. He ran off and God came to him when he was depressed and suicidal. God first provided for his physical needs and let him sleep. Then He asked him what the problem was. Elijah talked, but then went further into the wilderness.  There he lay down and prayed again. </a:t>
            </a:r>
            <a:r>
              <a:rPr b="1" lang="en-AU" sz="1200" spc="-1" strike="noStrike">
                <a:solidFill>
                  <a:srgbClr val="000000"/>
                </a:solidFill>
                <a:latin typeface="Arial"/>
              </a:rPr>
              <a:t>God dealt with him gently</a:t>
            </a:r>
            <a:r>
              <a:rPr b="0" lang="en-AU"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is best to tell a person before hand that there are certain secrets you will not keep. Or, if they share something such as depression or suicide, you can encourage them to tell.  You can tell them that you will be there to support and help them, but if they do not tell, that you will – for their own goo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Using noxious words/phrases at the wrong time or in the wrong situation can cause a lot of harm even though in the right place they may be instructive. We need to know the differen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E.  Watch for the nonverbal communication. We need to be relaxed, keep eye contact, have an open posture, and be grounded in a caring attitude and genuine concern. In the other person, look at the mood, the puzzled look, a small sigh, hands clenched, moist eyes, looking down or away, a tapping foot—all these things give clu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Even if we get all this right, we can still make mistakes. Recognize that you are human. Learn from your mistakes, correct them if possible, and move 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2057400" y="419040"/>
            <a:ext cx="2590920" cy="1943280"/>
          </a:xfrm>
          <a:prstGeom prst="rect">
            <a:avLst/>
          </a:prstGeom>
          <a:ln w="0">
            <a:noFill/>
          </a:ln>
        </p:spPr>
      </p:sp>
      <p:sp>
        <p:nvSpPr>
          <p:cNvPr id="102" name="PlaceHolder 2"/>
          <p:cNvSpPr>
            <a:spLocks noGrp="1"/>
          </p:cNvSpPr>
          <p:nvPr>
            <p:ph type="body"/>
          </p:nvPr>
        </p:nvSpPr>
        <p:spPr>
          <a:xfrm>
            <a:off x="685800" y="2552760"/>
            <a:ext cx="5486400" cy="58356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BE AWARE OF AND PRACTICE ETHICAL BEHAVIOUR (OH-6)</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  </a:t>
            </a:r>
            <a:r>
              <a:rPr b="1" lang="en-AU" sz="1200" spc="-1" strike="noStrike">
                <a:solidFill>
                  <a:srgbClr val="000000"/>
                </a:solidFill>
                <a:latin typeface="Arial"/>
              </a:rPr>
              <a:t>Maintain Confidentiality</a:t>
            </a:r>
            <a:r>
              <a:rPr b="0" lang="en-AU" sz="1200" spc="-1" strike="noStrike">
                <a:solidFill>
                  <a:srgbClr val="000000"/>
                </a:solidFill>
                <a:latin typeface="Arial"/>
              </a:rPr>
              <a:t> - Keep in mind 2 Timothy 2:16, "Avoid godless chatte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e need to be very particular that we do not share what people tell us unless we have their permission. If we cannot keep confidences then we are in the wrong part of the body of Christ as visitors. There are only a few situations where it is appropriate to not keep their secret. These include if they are suicidal or there is danger of abuse, murder, or danger to property. These cannot be kept secret. We need to know about the rules for emergencies and guidelines for such situation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e also need a support/supervision system for ourselves.  Helpers and visitors need to process what is happening and how to deal with particular situations and the appropriate things to do. Those support people need to be very sure of keeping their own counsel.</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James 4:11 says "Do not speak evil of one another, bretheren." God does not deal kindly with those who do not respect the privacy of other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B.   </a:t>
            </a:r>
            <a:r>
              <a:rPr b="1" lang="en-AU" sz="1200" spc="-1" strike="noStrike">
                <a:solidFill>
                  <a:srgbClr val="000000"/>
                </a:solidFill>
                <a:latin typeface="Arial"/>
              </a:rPr>
              <a:t>Power</a:t>
            </a:r>
            <a:r>
              <a:rPr b="0" lang="en-AU" sz="1200" spc="-1" strike="noStrike">
                <a:solidFill>
                  <a:srgbClr val="000000"/>
                </a:solidFill>
                <a:latin typeface="Arial"/>
              </a:rPr>
              <a:t>. When we visit we are in a position of power. We need to be aware of the power potential and not abuse it. A distressed, sick person is vulnerable and is often unable to speak up for themselves. If someone comes with all the answers, decides on how long to stay, what to talk about, etc. it is a misuse of power and becomes abusiv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itus 1:8 says "Be . . . self controlled, upright, holy and disciplined."</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Be sensitive in the length of the visit to vulnerable people. The only exception to this is bereaved people. They may need a couple of hours in order to process their thoughts and feelings. Visit at the appropriate time - not 5 minutes before the funeral is due to start. Be aware of cultural differences and respect those boundari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  </a:t>
            </a:r>
            <a:r>
              <a:rPr b="1" lang="en-AU" sz="1200" spc="-1" strike="noStrike">
                <a:solidFill>
                  <a:srgbClr val="000000"/>
                </a:solidFill>
                <a:latin typeface="Arial"/>
              </a:rPr>
              <a:t>Boundaries</a:t>
            </a:r>
            <a:r>
              <a:rPr b="0" lang="en-AU" sz="1200" spc="-1" strike="noStrike">
                <a:solidFill>
                  <a:srgbClr val="000000"/>
                </a:solidFill>
                <a:latin typeface="Arial"/>
              </a:rPr>
              <a:t>. We are fooling ourselves when we think we know all the answers and have all the expertise. We need to realize and recognize our limitations and know when to refer—to call in another person or know where to direct them. As we do that we can hope and pray that they will be helped to work through the problem.</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Unless you are a trained and qualified professional, issues such as sexual abuse, childhood abuse, serious marital conflict, or mental problems should all be referre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3886200" y="266760"/>
            <a:ext cx="2590920" cy="1942920"/>
          </a:xfrm>
          <a:prstGeom prst="rect">
            <a:avLst/>
          </a:prstGeom>
          <a:ln w="0">
            <a:noFill/>
          </a:ln>
        </p:spPr>
      </p:sp>
      <p:sp>
        <p:nvSpPr>
          <p:cNvPr id="104" name="PlaceHolder 2"/>
          <p:cNvSpPr>
            <a:spLocks noGrp="1"/>
          </p:cNvSpPr>
          <p:nvPr>
            <p:ph type="body"/>
          </p:nvPr>
        </p:nvSpPr>
        <p:spPr>
          <a:xfrm>
            <a:off x="380520" y="2019240"/>
            <a:ext cx="6172200" cy="647712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PRINCIPLES OF SPIRITUAL CARE (OH-7)</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  Help the person understand their situation. Imagine that you do not have long to live, have just been divorced, your son has just been sent to jail, or you have lost every cent invested for your retirement. How would you react to one of those situation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Resignatio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ondering how to cop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eeling miserabl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Being confused</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sking, “Why m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eeling physically ill</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Questioning God</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eople in difficult situations often feel that they need to find meaning in order to heal. Unfortunately, difficult situations rarely have easy answers. We need to be sensitive to the person’s needs. We should help them understand what they are feeling and why. When a person understands their situation they are better able to accept or deal with the situation.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B.   There is a difference between ordinary sadness or stress and clinical depression. Christians sometimes say and think, “If only we would look to God it would all go away.” Clinical depression doesn't work this way. God has given us medical knowledge. We would never assume that a heart by-pass would occur naturally, but when it comes to our emotions we think that all we need to do is talk to God and it will be sorted out. The whole person is involved and needs healing with whatever resources will help that person. God wants us to care for the whole person—not just one aspect of their liv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  The basics of salvation are what we need to know to help somebody, not extensive theological training.</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n Acts 16 we read about Paul and Silas. The jailer asked "What must I do to be saved?" Paul's answer was "Believe on the Lord Jesus Christ and you will be saved." Then within a short space of time, he told them about God and they were baptized the next morning.</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o not overburden the person with information or Biblical counsel. Be appropriate. Don't be like the lady who told the dying patient all about 666 and the Mark of the Beast. That was not appropriat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t is important to get the message across to people at the appropriate time— Believe on the Lord Jesus Christ. They need to be treated with gentle love. If we can help people find the basics of salvation then we have done God's work.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SITUATIONS WHEN IT MIGHT BE APPROPRIATE TO VISI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 A mother with two children is suddenly confronted with her husband's death. The emptiness and loneliness and the demands upon her seem to be overwhelming and she is unable to cope with the problems facing h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669E81-B62F-443B-8D37-7BAFE730E1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9BBCC7-0A38-4968-AF5F-9D2DA47B26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27482B-9D50-4980-BF69-E56A3D516B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7F4D1A-B9CC-4D3D-BA5F-DECF1BD385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95C2CC-5E1E-42C6-9B91-E4CD69E541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88D16E-D6BE-4161-B928-8063776760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547229-D06C-4DE0-9F13-F12A5B2D23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869E5E-71D0-4B5D-88F4-BAB296A461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16EB08-6F61-41B4-BA4F-BD63379555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81733-535A-455F-8314-E3AA529973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04024-AC05-4032-B5EE-97C4AEBE72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BFDB6-882D-4968-B992-D15B94DD61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C646E-3C80-4E6E-A4FF-65BAB8D9AA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inciples of Visitation</a:t>
            </a:r>
            <a:endParaRPr b="0" lang="en-US" sz="4400" spc="-1" strike="noStrike">
              <a:solidFill>
                <a:srgbClr val="ffffff"/>
              </a:solidFill>
              <a:latin typeface="Arial"/>
            </a:endParaRPr>
          </a:p>
        </p:txBody>
      </p:sp>
      <p:sp>
        <p:nvSpPr>
          <p:cNvPr id="49" name="PlaceHolder 2"/>
          <p:cNvSpPr>
            <a:spLocks noGrp="1"/>
          </p:cNvSpPr>
          <p:nvPr>
            <p:ph/>
          </p:nvPr>
        </p:nvSpPr>
        <p:spPr>
          <a:xfrm>
            <a:off x="2057400" y="2438280"/>
            <a:ext cx="5486400" cy="36878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y Butler</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dership Certification Course</a:t>
            </a:r>
            <a:endParaRPr b="0"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vel 2</a:t>
            </a:r>
            <a:endParaRPr b="0"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men’s Ministries</a:t>
            </a:r>
            <a:endParaRPr b="0"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l Conferenc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Home Visitation</a:t>
            </a:r>
            <a:endParaRPr b="0" lang="en-US" sz="5400" spc="-1" strike="noStrike">
              <a:solidFill>
                <a:srgbClr val="ffffff"/>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
          <p:cNvSpPr/>
          <p:nvPr/>
        </p:nvSpPr>
        <p:spPr>
          <a:xfrm>
            <a:off x="609480" y="1828800"/>
            <a:ext cx="6629400" cy="4289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ntrance</a:t>
            </a:r>
            <a:endParaRPr b="0" lang="en-US" sz="3200" spc="-1" strike="noStrike">
              <a:solidFill>
                <a:srgbClr val="000000"/>
              </a:solidFill>
              <a:latin typeface="Arial"/>
            </a:endParaRPr>
          </a:p>
          <a:p>
            <a:pPr>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tting Down</a:t>
            </a:r>
            <a:endParaRPr b="0" lang="en-US" sz="3200" spc="-1" strike="noStrike">
              <a:solidFill>
                <a:srgbClr val="000000"/>
              </a:solidFill>
              <a:latin typeface="Arial"/>
            </a:endParaRPr>
          </a:p>
          <a:p>
            <a:pPr>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iscussion</a:t>
            </a:r>
            <a:endParaRPr b="0" lang="en-US" sz="3200" spc="-1" strike="noStrike">
              <a:solidFill>
                <a:srgbClr val="000000"/>
              </a:solidFill>
              <a:latin typeface="Arial"/>
            </a:endParaRPr>
          </a:p>
          <a:p>
            <a:pPr>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ngth of Call</a:t>
            </a:r>
            <a:endParaRPr b="0" lang="en-US" sz="3200" spc="-1" strike="noStrike">
              <a:solidFill>
                <a:srgbClr val="000000"/>
              </a:solidFill>
              <a:latin typeface="Arial"/>
            </a:endParaRPr>
          </a:p>
          <a:p>
            <a:pPr>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siting the Shut-In</a:t>
            </a:r>
            <a:endParaRPr b="0" lang="en-US" sz="3200" spc="-1" strike="noStrike">
              <a:solidFill>
                <a:srgbClr val="000000"/>
              </a:solidFill>
              <a:latin typeface="Arial"/>
            </a:endParaRPr>
          </a:p>
          <a:p>
            <a:pPr>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uidelines for Making Initial Visits</a:t>
            </a:r>
            <a:endParaRPr b="0" lang="en-US" sz="3200" spc="-1" strike="noStrike">
              <a:solidFill>
                <a:srgbClr val="000000"/>
              </a:solidFill>
              <a:latin typeface="Arial"/>
            </a:endParaRPr>
          </a:p>
        </p:txBody>
      </p:sp>
      <p:pic>
        <p:nvPicPr>
          <p:cNvPr id="76" name="" descr=""/>
          <p:cNvPicPr/>
          <p:nvPr/>
        </p:nvPicPr>
        <p:blipFill>
          <a:blip r:embed="rId2"/>
          <a:stretch/>
        </p:blipFill>
        <p:spPr>
          <a:xfrm>
            <a:off x="4495680" y="1752480"/>
            <a:ext cx="4191120" cy="2355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2209320" y="3805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Types of Visitation</a:t>
            </a:r>
            <a:endParaRPr b="0" lang="en-US" sz="5400" spc="-1" strike="noStrike">
              <a:solidFill>
                <a:srgbClr val="ffffff"/>
              </a:solidFill>
              <a:latin typeface="Arial"/>
            </a:endParaRPr>
          </a:p>
        </p:txBody>
      </p:sp>
      <p:sp>
        <p:nvSpPr>
          <p:cNvPr id="80" name="PlaceHolder 2"/>
          <p:cNvSpPr>
            <a:spLocks noGrp="1"/>
          </p:cNvSpPr>
          <p:nvPr>
            <p:ph/>
          </p:nvPr>
        </p:nvSpPr>
        <p:spPr>
          <a:xfrm>
            <a:off x="2666880" y="2057040"/>
            <a:ext cx="6096240" cy="42670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siting a Church Memb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cer Patien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ernity/New Babi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ck Babies and Childre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ill Births, Miscarriage, and Neonatal Death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ying Patient</a:t>
            </a:r>
            <a:endParaRPr b="0" lang="en-US" sz="3200" spc="-1" strike="noStrike">
              <a:solidFill>
                <a:srgbClr val="ffffff"/>
              </a:solidFill>
              <a:latin typeface="Arial"/>
            </a:endParaRPr>
          </a:p>
        </p:txBody>
      </p:sp>
      <p:pic>
        <p:nvPicPr>
          <p:cNvPr id="81" name="" descr=""/>
          <p:cNvPicPr/>
          <p:nvPr/>
        </p:nvPicPr>
        <p:blipFill>
          <a:blip r:embed="rId2"/>
          <a:stretch/>
        </p:blipFill>
        <p:spPr>
          <a:xfrm>
            <a:off x="228600" y="1295280"/>
            <a:ext cx="1943280" cy="2667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133360" y="304560"/>
            <a:ext cx="655308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Know Your Place in the Body of Christ</a:t>
            </a:r>
            <a:endParaRPr b="0" lang="en-US" sz="4400" spc="-1" strike="noStrike">
              <a:solidFill>
                <a:srgbClr val="ffffff"/>
              </a:solidFill>
              <a:latin typeface="Arial"/>
            </a:endParaRPr>
          </a:p>
        </p:txBody>
      </p:sp>
      <p:sp>
        <p:nvSpPr>
          <p:cNvPr id="51"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Arial"/>
              </a:rPr>
              <a:t>"You are Christ's body—that's who you are. You must never forget this. Only as you accept your part of that body does your ‘part’ mean anything. You're familiar with some of the parts that God has formed in His church, which is His `body': apostles, prophets, teachers, miracle workers, healers, helpers, organizers, and those who pray in tongues. But it's obvious by now, isn't it, that Christ's church is a complete body and not a gigantic, unidimensional part?” 1 Cor. 12:27,28</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533160"/>
            <a:ext cx="4800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Why Visit?</a:t>
            </a:r>
            <a:endParaRPr b="0" lang="en-US" sz="6000" spc="-1" strike="noStrike">
              <a:solidFill>
                <a:srgbClr val="ffffff"/>
              </a:solidFill>
              <a:latin typeface="Arial"/>
            </a:endParaRPr>
          </a:p>
        </p:txBody>
      </p:sp>
      <p:sp>
        <p:nvSpPr>
          <p:cNvPr id="53" name="PlaceHolder 2"/>
          <p:cNvSpPr>
            <a:spLocks noGrp="1"/>
          </p:cNvSpPr>
          <p:nvPr>
            <p:ph/>
          </p:nvPr>
        </p:nvSpPr>
        <p:spPr>
          <a:xfrm>
            <a:off x="533520" y="2209320"/>
            <a:ext cx="8229600" cy="395460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There are people who need u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God has asked us to do thi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Because we love to do it</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To bear each other's burden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Because there is personal joy and satisfaction in helping others</a:t>
            </a:r>
            <a:endParaRPr b="0" lang="en-US" sz="3600" spc="-1" strike="noStrike">
              <a:solidFill>
                <a:srgbClr val="ffffff"/>
              </a:solidFill>
              <a:latin typeface="Arial"/>
            </a:endParaRPr>
          </a:p>
        </p:txBody>
      </p:sp>
      <p:pic>
        <p:nvPicPr>
          <p:cNvPr id="54" name="" descr=""/>
          <p:cNvPicPr/>
          <p:nvPr/>
        </p:nvPicPr>
        <p:blipFill>
          <a:blip r:embed="rId2"/>
          <a:stretch/>
        </p:blipFill>
        <p:spPr>
          <a:xfrm>
            <a:off x="6058080" y="398520"/>
            <a:ext cx="2476440" cy="1620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0456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Qualities of Visitors or Helpers</a:t>
            </a:r>
            <a:endParaRPr b="0" lang="en-US" sz="4400" spc="-1" strike="noStrike">
              <a:solidFill>
                <a:srgbClr val="ffffff"/>
              </a:solidFill>
              <a:latin typeface="Arial"/>
            </a:endParaRPr>
          </a:p>
        </p:txBody>
      </p:sp>
      <p:sp>
        <p:nvSpPr>
          <p:cNvPr id="56" name="PlaceHolder 2"/>
          <p:cNvSpPr>
            <a:spLocks noGrp="1"/>
          </p:cNvSpPr>
          <p:nvPr>
            <p:ph/>
          </p:nvPr>
        </p:nvSpPr>
        <p:spPr>
          <a:xfrm>
            <a:off x="228600" y="1447560"/>
            <a:ext cx="6477120" cy="5105160"/>
          </a:xfrm>
          <a:prstGeom prst="rect">
            <a:avLst/>
          </a:prstGeom>
          <a:noFill/>
          <a:ln w="0">
            <a:noFill/>
          </a:ln>
        </p:spPr>
        <p:txBody>
          <a:bodyPr lIns="90000" rIns="90000" tIns="46800" bIns="46800" anchor="t">
            <a:normAutofit/>
          </a:bodyPr>
          <a:p>
            <a:pPr marL="176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Examine yourselves as to whether you are in the faith"  </a:t>
            </a:r>
            <a:r>
              <a:rPr b="0" lang="en-AU" sz="2800" spc="-1" strike="noStrike">
                <a:solidFill>
                  <a:srgbClr val="ffffff"/>
                </a:solidFill>
                <a:latin typeface="Arial"/>
              </a:rPr>
              <a:t>2 Cor. 13:5 (RAV). </a:t>
            </a:r>
            <a:endParaRPr b="0" lang="en-US" sz="2800" spc="-1" strike="noStrike">
              <a:solidFill>
                <a:srgbClr val="ffffff"/>
              </a:solidFill>
              <a:latin typeface="Arial"/>
            </a:endParaRPr>
          </a:p>
          <a:p>
            <a:pPr marL="176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176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Be hospitable to one another without grumbling. As each one has received a gift, minister it to one another, as good stewards of the manifold grace of God” </a:t>
            </a:r>
            <a:endParaRPr b="0" lang="en-US" sz="3200" spc="-1" strike="noStrike">
              <a:solidFill>
                <a:srgbClr val="ffffff"/>
              </a:solidFill>
              <a:latin typeface="Arial"/>
            </a:endParaRPr>
          </a:p>
          <a:p>
            <a:pPr marL="176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  </a:t>
            </a:r>
            <a:r>
              <a:rPr b="0" lang="en-AU" sz="2800" spc="-1" strike="noStrike">
                <a:solidFill>
                  <a:srgbClr val="ffffff"/>
                </a:solidFill>
                <a:latin typeface="Arial"/>
              </a:rPr>
              <a:t>1 Peter 4:9, 10.</a:t>
            </a:r>
            <a:endParaRPr b="0" lang="en-US" sz="2800" spc="-1" strike="noStrike">
              <a:solidFill>
                <a:srgbClr val="ffffff"/>
              </a:solidFill>
              <a:latin typeface="Arial"/>
            </a:endParaRPr>
          </a:p>
        </p:txBody>
      </p:sp>
      <p:pic>
        <p:nvPicPr>
          <p:cNvPr id="57" name="" descr=""/>
          <p:cNvPicPr/>
          <p:nvPr/>
        </p:nvPicPr>
        <p:blipFill>
          <a:blip r:embed="rId2"/>
          <a:stretch/>
        </p:blipFill>
        <p:spPr>
          <a:xfrm>
            <a:off x="6858000" y="2133720"/>
            <a:ext cx="2286000" cy="3314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623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Approach Others in Distress With…</a:t>
            </a:r>
            <a:endParaRPr b="0" lang="en-US" sz="4800" spc="-1" strike="noStrike">
              <a:solidFill>
                <a:srgbClr val="ffffff"/>
              </a:solidFill>
              <a:latin typeface="Arial"/>
            </a:endParaRPr>
          </a:p>
        </p:txBody>
      </p:sp>
      <p:sp>
        <p:nvSpPr>
          <p:cNvPr id="59" name="PlaceHolder 2"/>
          <p:cNvSpPr>
            <a:spLocks noGrp="1"/>
          </p:cNvSpPr>
          <p:nvPr>
            <p:ph/>
          </p:nvPr>
        </p:nvSpPr>
        <p:spPr>
          <a:xfrm>
            <a:off x="609480" y="2514600"/>
            <a:ext cx="5486400" cy="36115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nsitivity and empathy</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lexibility</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enuinenes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cceptance of differences</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60" name="" descr=""/>
          <p:cNvPicPr/>
          <p:nvPr/>
        </p:nvPicPr>
        <p:blipFill>
          <a:blip r:embed="rId2"/>
          <a:stretch/>
        </p:blipFill>
        <p:spPr>
          <a:xfrm>
            <a:off x="5638680" y="3505320"/>
            <a:ext cx="3060720" cy="2917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04920"/>
            <a:ext cx="6324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Develop Good Communication Skills</a:t>
            </a:r>
            <a:endParaRPr b="0" lang="en-US" sz="4000" spc="-1" strike="noStrike">
              <a:solidFill>
                <a:srgbClr val="ffffff"/>
              </a:solidFill>
              <a:latin typeface="Arial"/>
            </a:endParaRPr>
          </a:p>
        </p:txBody>
      </p:sp>
      <p:sp>
        <p:nvSpPr>
          <p:cNvPr id="62" name="PlaceHolder 2"/>
          <p:cNvSpPr>
            <a:spLocks noGrp="1"/>
          </p:cNvSpPr>
          <p:nvPr>
            <p:ph/>
          </p:nvPr>
        </p:nvSpPr>
        <p:spPr>
          <a:xfrm>
            <a:off x="457200" y="1949040"/>
            <a:ext cx="6477120" cy="4908600"/>
          </a:xfrm>
          <a:prstGeom prst="rect">
            <a:avLst/>
          </a:prstGeom>
          <a:noFill/>
          <a:ln w="0">
            <a:noFill/>
          </a:ln>
        </p:spPr>
        <p:txBody>
          <a:bodyPr lIns="90000" rIns="90000" tIns="46800" bIns="46800" anchor="t">
            <a:normAutofit/>
          </a:bodyPr>
          <a:p>
            <a:pPr marL="343080" indent="-343080">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Listening focuses on what the person is saying.</a:t>
            </a:r>
            <a:endParaRPr b="0" lang="en-US" sz="3400" spc="-1" strike="noStrike">
              <a:solidFill>
                <a:srgbClr val="ffffff"/>
              </a:solidFill>
              <a:latin typeface="Arial"/>
            </a:endParaRPr>
          </a:p>
          <a:p>
            <a:pPr marL="343080" indent="-343080">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Reflect the feelings.</a:t>
            </a:r>
            <a:endParaRPr b="0" lang="en-US" sz="3400" spc="-1" strike="noStrike">
              <a:solidFill>
                <a:srgbClr val="ffffff"/>
              </a:solidFill>
              <a:latin typeface="Arial"/>
            </a:endParaRPr>
          </a:p>
          <a:p>
            <a:pPr marL="343080" indent="-343080">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Listen for themes in the conversation.</a:t>
            </a:r>
            <a:endParaRPr b="0" lang="en-US" sz="3400" spc="-1" strike="noStrike">
              <a:solidFill>
                <a:srgbClr val="ffffff"/>
              </a:solidFill>
              <a:latin typeface="Arial"/>
            </a:endParaRPr>
          </a:p>
          <a:p>
            <a:pPr marL="343080" indent="-343080">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Avoid noxious words.</a:t>
            </a:r>
            <a:endParaRPr b="0" lang="en-US" sz="3400" spc="-1" strike="noStrike">
              <a:solidFill>
                <a:srgbClr val="ffffff"/>
              </a:solidFill>
              <a:latin typeface="Arial"/>
            </a:endParaRPr>
          </a:p>
          <a:p>
            <a:pPr marL="343080" indent="-343080">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Watch for nonverbal communication.</a:t>
            </a:r>
            <a:endParaRPr b="0" lang="en-US" sz="3400" spc="-1" strike="noStrike">
              <a:solidFill>
                <a:srgbClr val="ffffff"/>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pic>
        <p:nvPicPr>
          <p:cNvPr id="63" name="" descr=""/>
          <p:cNvPicPr/>
          <p:nvPr/>
        </p:nvPicPr>
        <p:blipFill>
          <a:blip r:embed="rId2"/>
          <a:stretch/>
        </p:blipFill>
        <p:spPr>
          <a:xfrm>
            <a:off x="5143680" y="4229280"/>
            <a:ext cx="4000320" cy="2628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Be Aware of and Practice Ethical Behavior</a:t>
            </a:r>
            <a:endParaRPr b="0" lang="en-US" sz="4800" spc="-1" strike="noStrike">
              <a:solidFill>
                <a:srgbClr val="ffffff"/>
              </a:solidFill>
              <a:latin typeface="Arial"/>
            </a:endParaRPr>
          </a:p>
        </p:txBody>
      </p:sp>
      <p:sp>
        <p:nvSpPr>
          <p:cNvPr id="67" name="PlaceHolder 2"/>
          <p:cNvSpPr>
            <a:spLocks noGrp="1"/>
          </p:cNvSpPr>
          <p:nvPr>
            <p:ph/>
          </p:nvPr>
        </p:nvSpPr>
        <p:spPr>
          <a:xfrm>
            <a:off x="4114800" y="2438280"/>
            <a:ext cx="4114800" cy="3200400"/>
          </a:xfrm>
          <a:prstGeom prst="rect">
            <a:avLst/>
          </a:prstGeom>
          <a:noFill/>
          <a:ln w="0">
            <a:noFill/>
          </a:ln>
        </p:spPr>
        <p:txBody>
          <a:bodyPr lIns="90000" rIns="90000" tIns="46800" bIns="46800"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aintain Confidentiality</a:t>
            </a:r>
            <a:endParaRPr b="0" lang="en-US" sz="40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ower</a:t>
            </a:r>
            <a:endParaRPr b="0" lang="en-US" sz="40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oundaries</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68" name="" descr=""/>
          <p:cNvPicPr/>
          <p:nvPr/>
        </p:nvPicPr>
        <p:blipFill>
          <a:blip r:embed="rId2"/>
          <a:stretch/>
        </p:blipFill>
        <p:spPr>
          <a:xfrm>
            <a:off x="457200" y="2057400"/>
            <a:ext cx="2631960" cy="411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Principles of Spiritual Care</a:t>
            </a:r>
            <a:endParaRPr b="0" lang="en-US" sz="4800" spc="-1" strike="noStrike">
              <a:solidFill>
                <a:srgbClr val="ffffff"/>
              </a:solidFill>
              <a:latin typeface="Arial"/>
            </a:endParaRPr>
          </a:p>
        </p:txBody>
      </p:sp>
      <p:sp>
        <p:nvSpPr>
          <p:cNvPr id="70" name="PlaceHolder 2"/>
          <p:cNvSpPr>
            <a:spLocks noGrp="1"/>
          </p:cNvSpPr>
          <p:nvPr>
            <p:ph/>
          </p:nvPr>
        </p:nvSpPr>
        <p:spPr>
          <a:xfrm>
            <a:off x="1447560" y="1599840"/>
            <a:ext cx="7086600" cy="434340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lp the person understand their situation</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Know the difference between sadness and depression</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Know the basics of salvation – theological training not a prerequisit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0T14:27:05Z</dcterms:created>
  <dc:creator>Gilda Almeida</dc:creator>
  <dc:description/>
  <dc:language>en-US</dc:language>
  <cp:lastModifiedBy>Melanie Strahle</cp:lastModifiedBy>
  <dcterms:modified xsi:type="dcterms:W3CDTF">2006-04-13T17:48:24Z</dcterms:modified>
  <cp:revision>16</cp:revision>
  <dc:subject/>
  <dc:title>The Art of Personal Visitation</dc:title>
</cp:coreProperties>
</file>